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5555B-F615-4F9D-A2EC-34B4F3034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6DB2F-200C-4D78-A4A1-7A53B7141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8664A-7BC1-46DB-9AEE-849E8C9CB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74E54-24B8-4118-BE6A-D578B3F07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AF6BF-0F10-4FA8-84C1-706698009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4FA55-412B-4BF9-8E78-687E44DA5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5B051-BC4C-4BB6-9575-B3891A20B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74D73-1139-4A8A-9D8A-9A50279F8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4D580-BE40-4DDC-99F1-252A2BC66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67C56-446A-47FC-A109-D3D640625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96153-BC4C-461B-8D39-78348BBDD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BA1C3-8414-4D40-AA68-BE7775431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D3165-98C5-47D5-BFDA-7EDC7B1D5AA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3840" y="2057400"/>
            <a:ext cx="82702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   </a:t>
            </a: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Internal vs. External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            </a:t>
            </a: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Validity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990720" y="457200"/>
            <a:ext cx="7696080" cy="5715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4419720" y="2209680"/>
            <a:ext cx="3657600" cy="1828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257800" y="3886200"/>
            <a:ext cx="236232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4343400"/>
            <a:ext cx="2743200" cy="533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990720" y="457200"/>
            <a:ext cx="7696080" cy="5715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4419720" y="3429000"/>
            <a:ext cx="3200400" cy="609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257800" y="3886200"/>
            <a:ext cx="236232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638680" y="4343400"/>
            <a:ext cx="2743200" cy="533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990720" y="457200"/>
            <a:ext cx="76960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754380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609480" y="685800"/>
            <a:ext cx="78487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990720" y="380880"/>
            <a:ext cx="7467480" cy="27432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990720" y="3124080"/>
            <a:ext cx="746748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685800" y="762120"/>
            <a:ext cx="7620120" cy="22860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685800" y="3048120"/>
            <a:ext cx="7620120" cy="28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609480" y="685800"/>
            <a:ext cx="800100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838080" y="762120"/>
            <a:ext cx="7543800" cy="32605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838080" y="4038480"/>
            <a:ext cx="7543800" cy="166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838080" y="3657600"/>
            <a:ext cx="7543800" cy="27939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838080" y="457200"/>
            <a:ext cx="7543800" cy="22096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838080" y="2666880"/>
            <a:ext cx="7543800" cy="103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54380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762120" y="609480"/>
            <a:ext cx="769608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990720" y="762120"/>
            <a:ext cx="731520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066680" y="2057400"/>
            <a:ext cx="7239240" cy="38862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1066680" y="838080"/>
            <a:ext cx="723924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762120" y="609480"/>
            <a:ext cx="76960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143000" y="533520"/>
            <a:ext cx="731520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762120" y="685800"/>
            <a:ext cx="754380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467480" cy="54864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872520" y="1055520"/>
            <a:ext cx="88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a41"/>
                </a:solidFill>
                <a:latin typeface="Arial"/>
              </a:rPr>
              <a:t>Y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62120" y="533520"/>
            <a:ext cx="784836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6T01:37:56Z</dcterms:created>
  <dc:creator>david g. kleinbaum</dc:creator>
  <dc:description/>
  <dc:language>en-US</dc:language>
  <cp:lastModifiedBy>dkleinb</cp:lastModifiedBy>
  <dcterms:modified xsi:type="dcterms:W3CDTF">2003-10-21T15:41:26Z</dcterms:modified>
  <cp:revision>211</cp:revision>
  <dc:subject/>
  <dc:title>Slide 1</dc:title>
</cp:coreProperties>
</file>